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7B7-F178-4AA5-B06E-D7C79AB0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6411-0485-44E1-985D-0D038591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356-03BF-41CF-885E-56762F2E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429-05CA-4E6C-84A7-1E23A98C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6F7-E078-4A8D-AF7A-E4D35DD2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C39-79DE-4912-BAE0-9A53D766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80A-E956-4025-9804-081A3E3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876-C471-43FA-A1FB-AFB6D85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A19-DB5D-4BC0-87E2-773E11BC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E64-FD7F-4290-993C-AF8BB46D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C37-E41C-47C1-9CD3-67E1AB2A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3CE-5A02-43CD-9D1A-1F7F8A9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989-DB67-4F8B-A66B-F673456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A12-3E1A-45A4-8FBA-01FF21C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152-490E-4266-B5A5-D78492D2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AutoShape 34"/>
          <p:cNvCxnSpPr>
            <a:stCxn id="49" idx="2"/>
            <a:endCxn id="50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AutoShape 35"/>
          <p:cNvCxnSpPr>
            <a:stCxn id="50" idx="0"/>
            <a:endCxn id="52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3" name="Rectangle 2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5" name="AutoShape 7"/>
          <p:cNvCxnSpPr>
            <a:stCxn id="56" idx="2"/>
            <a:endCxn id="50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AutoShape 8"/>
          <p:cNvCxnSpPr>
            <a:stCxn id="50" idx="2"/>
            <a:endCxn id="54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AutoShape 9"/>
          <p:cNvCxnSpPr>
            <a:stCxn id="49" idx="2"/>
            <a:endCxn id="56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Rectangle 10"/>
          <p:cNvSpPr/>
          <p:nvPr/>
        </p:nvSpPr>
        <p:spPr>
          <a:xfrm>
            <a:off x="1920960" y="597960"/>
            <a:ext cx="5951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Python, ImageJ, SPEC, etc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0" name="AutoShape 11"/>
          <p:cNvCxnSpPr>
            <a:stCxn id="59" idx="2"/>
            <a:endCxn id="53" idx="0"/>
          </p:cNvCxnSpPr>
          <p:nvPr/>
        </p:nvCxnSpPr>
        <p:spPr>
          <a:xfrm flipH="1">
            <a:off x="2240640" y="935280"/>
            <a:ext cx="2656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Text Box 12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2" name="AutoShape 13"/>
          <p:cNvCxnSpPr>
            <a:stCxn id="53" idx="2"/>
            <a:endCxn id="49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Rectangle 14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4" name="AutoShape 15"/>
          <p:cNvCxnSpPr>
            <a:stCxn id="59" idx="2"/>
            <a:endCxn id="63" idx="0"/>
          </p:cNvCxnSpPr>
          <p:nvPr/>
        </p:nvCxnSpPr>
        <p:spPr>
          <a:xfrm flipH="1">
            <a:off x="3840120" y="935280"/>
            <a:ext cx="1056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16"/>
          <p:cNvCxnSpPr>
            <a:stCxn id="63" idx="2"/>
            <a:endCxn id="49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Rectangle 17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7" name="AutoShape 18"/>
          <p:cNvCxnSpPr>
            <a:stCxn id="54" idx="2"/>
            <a:endCxn id="66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Rectangle 19"/>
          <p:cNvSpPr/>
          <p:nvPr/>
        </p:nvSpPr>
        <p:spPr>
          <a:xfrm>
            <a:off x="7588080" y="215352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9" name="AutoShape 20"/>
          <p:cNvCxnSpPr>
            <a:stCxn id="50" idx="3"/>
            <a:endCxn id="68" idx="2"/>
          </p:cNvCxnSpPr>
          <p:nvPr/>
        </p:nvCxnSpPr>
        <p:spPr>
          <a:xfrm flipV="1">
            <a:off x="5543640" y="3342600"/>
            <a:ext cx="2776680" cy="1624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AutoShape 21"/>
          <p:cNvCxnSpPr>
            <a:stCxn id="68" idx="2"/>
            <a:endCxn id="71" idx="3"/>
          </p:cNvCxnSpPr>
          <p:nvPr/>
        </p:nvCxnSpPr>
        <p:spPr>
          <a:xfrm flipH="1">
            <a:off x="7588080" y="3342600"/>
            <a:ext cx="732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AutoShape 24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73" name="Text Box 25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79" name="AutoShape 32"/>
          <p:cNvCxnSpPr>
            <a:stCxn id="49" idx="1"/>
            <a:endCxn id="52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1" name="Rectangle 36"/>
          <p:cNvSpPr/>
          <p:nvPr/>
        </p:nvSpPr>
        <p:spPr>
          <a:xfrm>
            <a:off x="6081840" y="3423960"/>
            <a:ext cx="15062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HDF5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0" name="AutoShape 37"/>
          <p:cNvCxnSpPr>
            <a:stCxn id="50" idx="0"/>
            <a:endCxn id="71" idx="2"/>
          </p:cNvCxnSpPr>
          <p:nvPr/>
        </p:nvCxnSpPr>
        <p:spPr>
          <a:xfrm flipV="1">
            <a:off x="4674240" y="4217760"/>
            <a:ext cx="2161080" cy="5810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81" name="AutoShape 38"/>
          <p:cNvCxnSpPr>
            <a:stCxn id="49" idx="2"/>
            <a:endCxn id="71" idx="0"/>
          </p:cNvCxnSpPr>
          <p:nvPr/>
        </p:nvCxnSpPr>
        <p:spPr>
          <a:xfrm>
            <a:off x="4673520" y="3008160"/>
            <a:ext cx="2161800" cy="416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Rectangle 39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3" name="AutoShape 40"/>
          <p:cNvCxnSpPr>
            <a:stCxn id="82" idx="2"/>
            <a:endCxn id="49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41"/>
          <p:cNvCxnSpPr>
            <a:stCxn id="59" idx="2"/>
            <a:endCxn id="82" idx="0"/>
          </p:cNvCxnSpPr>
          <p:nvPr/>
        </p:nvCxnSpPr>
        <p:spPr>
          <a:xfrm>
            <a:off x="4896720" y="935280"/>
            <a:ext cx="2463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42"/>
          <p:cNvCxnSpPr>
            <a:stCxn id="49" idx="2"/>
            <a:endCxn id="52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AutoShape 43"/>
          <p:cNvCxnSpPr>
            <a:endCxn id="87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>
            <a:endCxn id="89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9" name="Text Box 46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0" name="AutoShape 47"/>
          <p:cNvCxnSpPr>
            <a:endCxn id="91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Text Box 48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2" name="AutoShape 49"/>
          <p:cNvCxnSpPr>
            <a:endCxn id="93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Text Box 50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4" name="AutoShape 51"/>
          <p:cNvCxnSpPr>
            <a:endCxn id="95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95" name="Text Box 52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6" name="AutoShape 53"/>
          <p:cNvCxnSpPr>
            <a:endCxn id="97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4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9" name="AutoShape 56"/>
          <p:cNvCxnSpPr>
            <a:stCxn id="59" idx="2"/>
            <a:endCxn id="98" idx="0"/>
          </p:cNvCxnSpPr>
          <p:nvPr/>
        </p:nvCxnSpPr>
        <p:spPr>
          <a:xfrm>
            <a:off x="4896720" y="935280"/>
            <a:ext cx="544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57"/>
          <p:cNvCxnSpPr>
            <a:stCxn id="98" idx="2"/>
            <a:endCxn id="49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58"/>
          <p:cNvCxnSpPr>
            <a:stCxn id="102" idx="3"/>
            <a:endCxn id="56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59"/>
          <p:cNvCxnSpPr>
            <a:stCxn id="102" idx="1"/>
            <a:endCxn id="52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6" name="Rectangle 4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" name="AutoShape 61"/>
          <p:cNvCxnSpPr>
            <a:stCxn id="49" idx="2"/>
            <a:endCxn id="102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62"/>
          <p:cNvCxnSpPr>
            <a:stCxn id="102" idx="2"/>
            <a:endCxn id="50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63"/>
          <p:cNvCxnSpPr>
            <a:stCxn id="56" idx="3"/>
            <a:endCxn id="71" idx="1"/>
          </p:cNvCxnSpPr>
          <p:nvPr/>
        </p:nvCxnSpPr>
        <p:spPr>
          <a:xfrm flipV="1">
            <a:off x="5943600" y="3820680"/>
            <a:ext cx="138600" cy="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17-09-25T17:07:36Z</dcterms:modified>
  <cp:revision>26</cp:revision>
  <dc:subject/>
  <dc:title>mcaRecord</dc:title>
</cp:coreProperties>
</file>