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7B4F-CA24-4E01-AC55-C4602A523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DDE0-ECCA-4EC4-9C61-3A860392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B4E5-CCC9-4219-BAA4-06299C483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D925-3D85-4063-936A-6D27DFA81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B56D-79E1-4A76-A5BE-37C5EC49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CDFF-431A-445A-B127-97BF90C5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7735-1861-4466-8DE4-E1603B1F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1507-AA8A-48EE-AC88-BAB5A8F5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4EAD-DDE6-4894-98D8-47FEC9DA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7AB4-8EC2-46D5-B9EF-E1E61014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B561-E5E3-4C39-A3A1-0F9A1319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A17B-88D3-4712-9EF5-254C406D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2120-FE6E-4AE6-B359-E8EC66B07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2"/>
            <a:endCxn id="43" idx="0"/>
          </p:cNvCxnSpPr>
          <p:nvPr/>
        </p:nvCxnSpPr>
        <p:spPr>
          <a:xfrm flipH="1" rot="16200000">
            <a:off x="3778920" y="3902760"/>
            <a:ext cx="1790640" cy="1080"/>
          </a:xfrm>
          <a:prstGeom prst="curvedConnector3">
            <a:avLst>
              <a:gd name="adj1" fmla="val 24994"/>
            </a:avLst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" name=""/>
          <p:cNvCxnSpPr>
            <a:stCxn id="43" idx="0"/>
            <a:endCxn id="45" idx="2"/>
          </p:cNvCxnSpPr>
          <p:nvPr/>
        </p:nvCxnSpPr>
        <p:spPr>
          <a:xfrm flipH="1" flipV="1">
            <a:off x="2148480" y="3989880"/>
            <a:ext cx="252612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1646280" y="1482840"/>
            <a:ext cx="1189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D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3200" y="2427480"/>
            <a:ext cx="332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andard asyn device sup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device-independ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76600" y="5535000"/>
            <a:ext cx="219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ndor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5200" y="4798440"/>
            <a:ext cx="1738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ri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9" idx="2"/>
            <a:endCxn id="43" idx="0"/>
          </p:cNvCxnSpPr>
          <p:nvPr/>
        </p:nvCxnSpPr>
        <p:spPr>
          <a:xfrm flipH="1">
            <a:off x="4674240" y="3989880"/>
            <a:ext cx="7664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" name=""/>
          <p:cNvCxnSpPr>
            <a:stCxn id="43" idx="2"/>
            <a:endCxn id="47" idx="0"/>
          </p:cNvCxnSpPr>
          <p:nvPr/>
        </p:nvCxnSpPr>
        <p:spPr>
          <a:xfrm flipH="1">
            <a:off x="4673520" y="5135760"/>
            <a:ext cx="10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" name=""/>
          <p:cNvCxnSpPr>
            <a:stCxn id="42" idx="2"/>
            <a:endCxn id="49" idx="0"/>
          </p:cNvCxnSpPr>
          <p:nvPr/>
        </p:nvCxnSpPr>
        <p:spPr>
          <a:xfrm>
            <a:off x="4673520" y="3008160"/>
            <a:ext cx="76716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1828800" y="597960"/>
            <a:ext cx="543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annel Access Clients (medm, IDL, ImageJ, SPEC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2" idx="2"/>
            <a:endCxn id="46" idx="0"/>
          </p:cNvCxnSpPr>
          <p:nvPr/>
        </p:nvCxnSpPr>
        <p:spPr>
          <a:xfrm flipH="1">
            <a:off x="2240640" y="935280"/>
            <a:ext cx="23054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625760" y="1713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CS areaDetector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6" idx="2"/>
            <a:endCxn id="42" idx="0"/>
          </p:cNvCxnSpPr>
          <p:nvPr/>
        </p:nvCxnSpPr>
        <p:spPr>
          <a:xfrm>
            <a:off x="2240640" y="2063520"/>
            <a:ext cx="24332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200400" y="1471680"/>
            <a:ext cx="127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xxxDri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2" idx="2"/>
            <a:endCxn id="56" idx="0"/>
          </p:cNvCxnSpPr>
          <p:nvPr/>
        </p:nvCxnSpPr>
        <p:spPr>
          <a:xfrm flipH="1">
            <a:off x="3840120" y="935280"/>
            <a:ext cx="705960" cy="536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2" idx="0"/>
          </p:cNvCxnSpPr>
          <p:nvPr/>
        </p:nvCxnSpPr>
        <p:spPr>
          <a:xfrm>
            <a:off x="3840120" y="2052360"/>
            <a:ext cx="833760" cy="37548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532320" y="6106680"/>
            <a:ext cx="2284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7" idx="2"/>
            <a:endCxn id="59" idx="0"/>
          </p:cNvCxnSpPr>
          <p:nvPr/>
        </p:nvCxnSpPr>
        <p:spPr>
          <a:xfrm>
            <a:off x="4673520" y="5872320"/>
            <a:ext cx="1080" cy="23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7588080" y="2243880"/>
            <a:ext cx="14637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++ Base classes (NDArray, asynPortDriver, asynNDArrayDriver, ADDriver, NDPluginDri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3" idx="3"/>
            <a:endCxn id="61" idx="2"/>
          </p:cNvCxnSpPr>
          <p:nvPr/>
        </p:nvCxnSpPr>
        <p:spPr>
          <a:xfrm flipV="1">
            <a:off x="5543640" y="3432960"/>
            <a:ext cx="2776680" cy="1534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61" idx="2"/>
            <a:endCxn id="64" idx="3"/>
          </p:cNvCxnSpPr>
          <p:nvPr/>
        </p:nvCxnSpPr>
        <p:spPr>
          <a:xfrm flipH="1">
            <a:off x="7497720" y="3432960"/>
            <a:ext cx="822600" cy="3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" name=""/>
          <p:cNvCxnSpPr/>
          <p:nvPr/>
        </p:nvCxnSpPr>
        <p:spPr>
          <a:xfrm>
            <a:off x="1964880" y="33858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0" y="1325520"/>
            <a:ext cx="164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5 Standard EPICS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332080"/>
            <a:ext cx="155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devic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30520"/>
            <a:ext cx="11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3 Plug-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532480"/>
            <a:ext cx="14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67676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vice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11120"/>
            <a:ext cx="19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CA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3652560"/>
            <a:ext cx="1189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d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2" idx="1"/>
            <a:endCxn id="45" idx="0"/>
          </p:cNvCxnSpPr>
          <p:nvPr/>
        </p:nvCxnSpPr>
        <p:spPr>
          <a:xfrm flipV="1" rot="10800000">
            <a:off x="2148480" y="2717280"/>
            <a:ext cx="865080" cy="935280"/>
          </a:xfrm>
          <a:prstGeom prst="bentConnector2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6218280" y="3424320"/>
            <a:ext cx="1279440" cy="79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netCDF, TIFF, JPEG, HD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43" idx="0"/>
            <a:endCxn id="64" idx="2"/>
          </p:cNvCxnSpPr>
          <p:nvPr/>
        </p:nvCxnSpPr>
        <p:spPr>
          <a:xfrm flipV="1">
            <a:off x="4674240" y="4218120"/>
            <a:ext cx="2184120" cy="58068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42" idx="2"/>
            <a:endCxn id="64" idx="0"/>
          </p:cNvCxnSpPr>
          <p:nvPr/>
        </p:nvCxnSpPr>
        <p:spPr>
          <a:xfrm>
            <a:off x="4673520" y="3008160"/>
            <a:ext cx="2184840" cy="416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58332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XXX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2"/>
            <a:endCxn id="42" idx="0"/>
          </p:cNvCxnSpPr>
          <p:nvPr/>
        </p:nvCxnSpPr>
        <p:spPr>
          <a:xfrm flipH="1">
            <a:off x="4673520" y="2063520"/>
            <a:ext cx="26870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52" idx="2"/>
            <a:endCxn id="75" idx="0"/>
          </p:cNvCxnSpPr>
          <p:nvPr/>
        </p:nvCxnSpPr>
        <p:spPr>
          <a:xfrm>
            <a:off x="4545720" y="935280"/>
            <a:ext cx="28148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42" idx="2"/>
            <a:endCxn id="45" idx="0"/>
          </p:cNvCxnSpPr>
          <p:nvPr/>
        </p:nvCxnSpPr>
        <p:spPr>
          <a:xfrm flipH="1">
            <a:off x="2148480" y="3008160"/>
            <a:ext cx="252540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endCxn id="80" idx="1"/>
          </p:cNvCxnSpPr>
          <p:nvPr/>
        </p:nvCxnSpPr>
        <p:spPr>
          <a:xfrm>
            <a:off x="6019920" y="5257440"/>
            <a:ext cx="503640" cy="1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6523200" y="5105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hannel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endCxn id="82" idx="1"/>
          </p:cNvCxnSpPr>
          <p:nvPr/>
        </p:nvCxnSpPr>
        <p:spPr>
          <a:xfrm>
            <a:off x="6019920" y="5543280"/>
            <a:ext cx="503640" cy="144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523200" y="5391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Record/device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endCxn id="84" idx="1"/>
          </p:cNvCxnSpPr>
          <p:nvPr/>
        </p:nvCxnSpPr>
        <p:spPr>
          <a:xfrm>
            <a:off x="6019920" y="57909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523200" y="563868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Int32, Float64, Oc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endCxn id="86" idx="1"/>
          </p:cNvCxnSpPr>
          <p:nvPr/>
        </p:nvCxnSpPr>
        <p:spPr>
          <a:xfrm>
            <a:off x="6019920" y="6248160"/>
            <a:ext cx="503640" cy="144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6523200" y="609588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GenericPointer (NDAr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8" idx="1"/>
          </p:cNvCxnSpPr>
          <p:nvPr/>
        </p:nvCxnSpPr>
        <p:spPr>
          <a:xfrm>
            <a:off x="6019920" y="60195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6523200" y="5867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XXX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90" idx="1"/>
          </p:cNvCxnSpPr>
          <p:nvPr/>
        </p:nvCxnSpPr>
        <p:spPr>
          <a:xfrm>
            <a:off x="6019920" y="6505200"/>
            <a:ext cx="50364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6523200" y="6353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 library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6416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52" idx="2"/>
            <a:endCxn id="91" idx="0"/>
          </p:cNvCxnSpPr>
          <p:nvPr/>
        </p:nvCxnSpPr>
        <p:spPr>
          <a:xfrm>
            <a:off x="4545720" y="935280"/>
            <a:ext cx="89568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" name=""/>
          <p:cNvCxnSpPr>
            <a:stCxn id="91" idx="2"/>
            <a:endCxn id="42" idx="0"/>
          </p:cNvCxnSpPr>
          <p:nvPr/>
        </p:nvCxnSpPr>
        <p:spPr>
          <a:xfrm flipH="1">
            <a:off x="4673520" y="2063520"/>
            <a:ext cx="76788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" name=""/>
          <p:cNvCxnSpPr>
            <a:stCxn id="95" idx="3"/>
            <a:endCxn id="49" idx="1"/>
          </p:cNvCxnSpPr>
          <p:nvPr/>
        </p:nvCxnSpPr>
        <p:spPr>
          <a:xfrm>
            <a:off x="4387680" y="3821040"/>
            <a:ext cx="54972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95" idx="1"/>
            <a:endCxn id="45" idx="3"/>
          </p:cNvCxnSpPr>
          <p:nvPr/>
        </p:nvCxnSpPr>
        <p:spPr>
          <a:xfrm flipH="1">
            <a:off x="2743200" y="3821040"/>
            <a:ext cx="36540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937040" y="3652560"/>
            <a:ext cx="1006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O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8240" y="3652560"/>
            <a:ext cx="1279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olorCo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42" idx="2"/>
            <a:endCxn id="95" idx="0"/>
          </p:cNvCxnSpPr>
          <p:nvPr/>
        </p:nvCxnSpPr>
        <p:spPr>
          <a:xfrm flipH="1">
            <a:off x="3747960" y="3008160"/>
            <a:ext cx="92592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95" idx="2"/>
            <a:endCxn id="43" idx="0"/>
          </p:cNvCxnSpPr>
          <p:nvPr/>
        </p:nvCxnSpPr>
        <p:spPr>
          <a:xfrm>
            <a:off x="3747960" y="3989880"/>
            <a:ext cx="9266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49" idx="3"/>
            <a:endCxn id="64" idx="1"/>
          </p:cNvCxnSpPr>
          <p:nvPr/>
        </p:nvCxnSpPr>
        <p:spPr>
          <a:xfrm>
            <a:off x="5943600" y="3821040"/>
            <a:ext cx="27504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40:55Z</dcterms:created>
  <dc:creator>epics</dc:creator>
  <dc:description/>
  <dc:language>en-US</dc:language>
  <cp:lastModifiedBy>Mark Rivers</cp:lastModifiedBy>
  <dcterms:modified xsi:type="dcterms:W3CDTF">2009-09-11T21:59:31Z</dcterms:modified>
  <cp:revision>24</cp:revision>
  <dc:subject/>
  <dc:title>mcaRecord</dc:title>
</cp:coreProperties>
</file>