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1969-F7D3-4D09-927C-6971B3567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6ABE-5A24-4A42-A36F-E4FA89B11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E4F-2791-4813-9D24-E00F2F50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36A-094D-4D6A-8253-402451C4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97C6-E2CF-43E0-A5C2-6D3ACC8E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4D8D-E819-43F8-BEB7-5CCF263B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0487-826E-423C-9877-50A08CB8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D335-65C9-4A0E-8D10-B94CB4A8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7FBF-44B1-4902-8FD7-6624FDB1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AD0-9E06-4368-AB0C-AE7A3376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F831-1B5C-47F9-B570-6D1EC181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4A2-390F-48A1-8A3E-EEB808CC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C70-C60D-4135-AC33-4FE52490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632-E4A4-4A86-978E-480BA292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BDCE-6D51-4EC4-A085-6E5BF7CDB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AutoShape 34"/>
          <p:cNvCxnSpPr>
            <a:stCxn id="49" idx="2"/>
            <a:endCxn id="50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AutoShape 35"/>
          <p:cNvCxnSpPr>
            <a:stCxn id="50" idx="0"/>
            <a:endCxn id="52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53" name="Rectangle 2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55" name="AutoShape 7"/>
          <p:cNvCxnSpPr>
            <a:stCxn id="56" idx="2"/>
            <a:endCxn id="50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AutoShape 8"/>
          <p:cNvCxnSpPr>
            <a:stCxn id="50" idx="2"/>
            <a:endCxn id="54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AutoShape 9"/>
          <p:cNvCxnSpPr>
            <a:stCxn id="49" idx="2"/>
            <a:endCxn id="56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Rectangle 10"/>
          <p:cNvSpPr/>
          <p:nvPr/>
        </p:nvSpPr>
        <p:spPr>
          <a:xfrm>
            <a:off x="1920960" y="597960"/>
            <a:ext cx="5951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Python, ImageJ, SPEC, etc.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0" name="AutoShape 11"/>
          <p:cNvCxnSpPr>
            <a:stCxn id="59" idx="2"/>
            <a:endCxn id="53" idx="0"/>
          </p:cNvCxnSpPr>
          <p:nvPr/>
        </p:nvCxnSpPr>
        <p:spPr>
          <a:xfrm flipH="1">
            <a:off x="2240640" y="935280"/>
            <a:ext cx="2656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Text Box 12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2" name="AutoShape 13"/>
          <p:cNvCxnSpPr>
            <a:stCxn id="53" idx="2"/>
            <a:endCxn id="49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3" name="Rectangle 14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4" name="AutoShape 15"/>
          <p:cNvCxnSpPr>
            <a:stCxn id="59" idx="2"/>
            <a:endCxn id="63" idx="0"/>
          </p:cNvCxnSpPr>
          <p:nvPr/>
        </p:nvCxnSpPr>
        <p:spPr>
          <a:xfrm flipH="1">
            <a:off x="3840120" y="935280"/>
            <a:ext cx="1056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AutoShape 16"/>
          <p:cNvCxnSpPr>
            <a:stCxn id="63" idx="2"/>
            <a:endCxn id="49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6" name="Rectangle 17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7" name="AutoShape 18"/>
          <p:cNvCxnSpPr>
            <a:stCxn id="54" idx="2"/>
            <a:endCxn id="66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" name="Rectangle 19"/>
          <p:cNvSpPr/>
          <p:nvPr/>
        </p:nvSpPr>
        <p:spPr>
          <a:xfrm>
            <a:off x="7588080" y="215352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9" name="AutoShape 20"/>
          <p:cNvCxnSpPr>
            <a:stCxn id="50" idx="3"/>
            <a:endCxn id="68" idx="2"/>
          </p:cNvCxnSpPr>
          <p:nvPr/>
        </p:nvCxnSpPr>
        <p:spPr>
          <a:xfrm flipV="1">
            <a:off x="5543640" y="3342600"/>
            <a:ext cx="2776680" cy="16246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" name="AutoShape 21"/>
          <p:cNvCxnSpPr>
            <a:stCxn id="68" idx="2"/>
            <a:endCxn id="71" idx="3"/>
          </p:cNvCxnSpPr>
          <p:nvPr/>
        </p:nvCxnSpPr>
        <p:spPr>
          <a:xfrm flipH="1">
            <a:off x="7588080" y="3342600"/>
            <a:ext cx="732240" cy="47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" name="AutoShape 24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73" name="Text Box 25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Rectangle 31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79" name="AutoShape 32"/>
          <p:cNvCxnSpPr>
            <a:stCxn id="49" idx="1"/>
            <a:endCxn id="52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71" name="Rectangle 36"/>
          <p:cNvSpPr/>
          <p:nvPr/>
        </p:nvSpPr>
        <p:spPr>
          <a:xfrm>
            <a:off x="6081840" y="3423960"/>
            <a:ext cx="15062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HDF5,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80" name="AutoShape 37"/>
          <p:cNvCxnSpPr>
            <a:stCxn id="50" idx="0"/>
            <a:endCxn id="71" idx="2"/>
          </p:cNvCxnSpPr>
          <p:nvPr/>
        </p:nvCxnSpPr>
        <p:spPr>
          <a:xfrm flipV="1">
            <a:off x="4674240" y="4217760"/>
            <a:ext cx="2161080" cy="58104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81" name="AutoShape 38"/>
          <p:cNvCxnSpPr>
            <a:stCxn id="49" idx="2"/>
            <a:endCxn id="71" idx="0"/>
          </p:cNvCxnSpPr>
          <p:nvPr/>
        </p:nvCxnSpPr>
        <p:spPr>
          <a:xfrm>
            <a:off x="4673520" y="3008160"/>
            <a:ext cx="2161800" cy="4161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Rectangle 39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83" name="AutoShape 40"/>
          <p:cNvCxnSpPr>
            <a:stCxn id="82" idx="2"/>
            <a:endCxn id="49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AutoShape 41"/>
          <p:cNvCxnSpPr>
            <a:stCxn id="59" idx="2"/>
            <a:endCxn id="82" idx="0"/>
          </p:cNvCxnSpPr>
          <p:nvPr/>
        </p:nvCxnSpPr>
        <p:spPr>
          <a:xfrm>
            <a:off x="4896720" y="935280"/>
            <a:ext cx="2463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AutoShape 42"/>
          <p:cNvCxnSpPr>
            <a:stCxn id="49" idx="2"/>
            <a:endCxn id="52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AutoShape 43"/>
          <p:cNvCxnSpPr>
            <a:endCxn id="87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7" name="Text Box 44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88" name="AutoShape 45"/>
          <p:cNvCxnSpPr>
            <a:endCxn id="89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9" name="Text Box 46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0" name="AutoShape 47"/>
          <p:cNvCxnSpPr>
            <a:endCxn id="91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1" name="Text Box 48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2" name="AutoShape 49"/>
          <p:cNvCxnSpPr>
            <a:endCxn id="93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3" name="Text Box 50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4" name="AutoShape 51"/>
          <p:cNvCxnSpPr>
            <a:endCxn id="95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95" name="Text Box 52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6" name="AutoShape 53"/>
          <p:cNvCxnSpPr>
            <a:endCxn id="97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7" name="Text Box 54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Rectangle 55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9" name="AutoShape 56"/>
          <p:cNvCxnSpPr>
            <a:stCxn id="59" idx="2"/>
            <a:endCxn id="98" idx="0"/>
          </p:cNvCxnSpPr>
          <p:nvPr/>
        </p:nvCxnSpPr>
        <p:spPr>
          <a:xfrm>
            <a:off x="4896720" y="935280"/>
            <a:ext cx="544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" name="AutoShape 57"/>
          <p:cNvCxnSpPr>
            <a:stCxn id="98" idx="2"/>
            <a:endCxn id="49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1" name="AutoShape 58"/>
          <p:cNvCxnSpPr>
            <a:stCxn id="102" idx="3"/>
            <a:endCxn id="56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AutoShape 59"/>
          <p:cNvCxnSpPr>
            <a:stCxn id="102" idx="1"/>
            <a:endCxn id="52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56" name="Rectangle 4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Rectangle 60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104" name="AutoShape 61"/>
          <p:cNvCxnSpPr>
            <a:stCxn id="49" idx="2"/>
            <a:endCxn id="102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AutoShape 62"/>
          <p:cNvCxnSpPr>
            <a:stCxn id="102" idx="2"/>
            <a:endCxn id="50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AutoShape 63"/>
          <p:cNvCxnSpPr>
            <a:stCxn id="56" idx="3"/>
            <a:endCxn id="71" idx="1"/>
          </p:cNvCxnSpPr>
          <p:nvPr/>
        </p:nvCxnSpPr>
        <p:spPr>
          <a:xfrm flipV="1">
            <a:off x="5943600" y="3820680"/>
            <a:ext cx="138600" cy="7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17-09-25T17:07:36Z</dcterms:modified>
  <cp:revision>26</cp:revision>
  <dc:subject/>
  <dc:title>mcaRecord</dc:title>
</cp:coreProperties>
</file>