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9E93-976E-4CCC-966E-39AE8836F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1309-02FD-4F7B-9C14-E8F7A5D5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0B88E-2C7D-4255-A9B9-0FCA5FB0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3B5A5-C4E0-4834-BC24-70624ED7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99A-A091-473C-B42A-AF769DFA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3A7A-3A56-45B2-898A-18D16504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72E3-18FD-4422-9533-6173C5633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9270-7A45-4642-9528-0DDB6A210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8B4E-0D91-4A30-9FAB-B7EB6A7E0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962F-6F77-48A9-BDEA-B713D5BC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412-8D42-474B-9E6B-71A843EC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46B7-F400-43CD-B7F1-5B8B2F0A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ADD93-7160-42D0-B5C9-EA4D20508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2"/>
            <a:endCxn id="43" idx="0"/>
          </p:cNvCxnSpPr>
          <p:nvPr/>
        </p:nvCxnSpPr>
        <p:spPr>
          <a:xfrm flipH="1" rot="16200000">
            <a:off x="3778920" y="3902760"/>
            <a:ext cx="1790640" cy="1080"/>
          </a:xfrm>
          <a:prstGeom prst="curvedConnector3">
            <a:avLst>
              <a:gd name="adj1" fmla="val 24994"/>
            </a:avLst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4" name=""/>
          <p:cNvCxnSpPr>
            <a:stCxn id="43" idx="0"/>
            <a:endCxn id="45" idx="2"/>
          </p:cNvCxnSpPr>
          <p:nvPr/>
        </p:nvCxnSpPr>
        <p:spPr>
          <a:xfrm flipH="1" flipV="1">
            <a:off x="2148480" y="3989880"/>
            <a:ext cx="252612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1646280" y="1482840"/>
            <a:ext cx="118908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D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13200" y="2427480"/>
            <a:ext cx="332100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andard asyn device suppor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device-independen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576600" y="5535000"/>
            <a:ext cx="219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Vendor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5200" y="4798440"/>
            <a:ext cx="1738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ri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9" idx="2"/>
            <a:endCxn id="43" idx="0"/>
          </p:cNvCxnSpPr>
          <p:nvPr/>
        </p:nvCxnSpPr>
        <p:spPr>
          <a:xfrm flipH="1">
            <a:off x="4674240" y="3989880"/>
            <a:ext cx="7664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0" name=""/>
          <p:cNvCxnSpPr>
            <a:stCxn id="43" idx="2"/>
            <a:endCxn id="47" idx="0"/>
          </p:cNvCxnSpPr>
          <p:nvPr/>
        </p:nvCxnSpPr>
        <p:spPr>
          <a:xfrm flipH="1">
            <a:off x="4673520" y="5135760"/>
            <a:ext cx="10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1" name=""/>
          <p:cNvCxnSpPr>
            <a:stCxn id="42" idx="2"/>
            <a:endCxn id="49" idx="0"/>
          </p:cNvCxnSpPr>
          <p:nvPr/>
        </p:nvCxnSpPr>
        <p:spPr>
          <a:xfrm>
            <a:off x="4673520" y="3008160"/>
            <a:ext cx="76716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1828800" y="597960"/>
            <a:ext cx="54338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annel Access Clients (medm, IDL, ImageJ, SPEC, etc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2" idx="2"/>
            <a:endCxn id="46" idx="0"/>
          </p:cNvCxnSpPr>
          <p:nvPr/>
        </p:nvCxnSpPr>
        <p:spPr>
          <a:xfrm flipH="1">
            <a:off x="2240640" y="935280"/>
            <a:ext cx="23054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25760" y="171360"/>
            <a:ext cx="60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PICS areaDetector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46" idx="2"/>
            <a:endCxn id="42" idx="0"/>
          </p:cNvCxnSpPr>
          <p:nvPr/>
        </p:nvCxnSpPr>
        <p:spPr>
          <a:xfrm>
            <a:off x="2240640" y="2063520"/>
            <a:ext cx="24332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200400" y="1471680"/>
            <a:ext cx="127944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xxxDriv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"/>
          <p:cNvCxnSpPr>
            <a:stCxn id="52" idx="2"/>
            <a:endCxn id="56" idx="0"/>
          </p:cNvCxnSpPr>
          <p:nvPr/>
        </p:nvCxnSpPr>
        <p:spPr>
          <a:xfrm flipH="1">
            <a:off x="3840120" y="935280"/>
            <a:ext cx="705960" cy="53676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8" name=""/>
          <p:cNvCxnSpPr>
            <a:stCxn id="56" idx="2"/>
            <a:endCxn id="42" idx="0"/>
          </p:cNvCxnSpPr>
          <p:nvPr/>
        </p:nvCxnSpPr>
        <p:spPr>
          <a:xfrm>
            <a:off x="3840120" y="2052360"/>
            <a:ext cx="833760" cy="37548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9" name=""/>
          <p:cNvSpPr/>
          <p:nvPr/>
        </p:nvSpPr>
        <p:spPr>
          <a:xfrm>
            <a:off x="3532320" y="6106680"/>
            <a:ext cx="22842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7" idx="2"/>
            <a:endCxn id="59" idx="0"/>
          </p:cNvCxnSpPr>
          <p:nvPr/>
        </p:nvCxnSpPr>
        <p:spPr>
          <a:xfrm>
            <a:off x="4673520" y="5872320"/>
            <a:ext cx="1080" cy="23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7588080" y="2243880"/>
            <a:ext cx="146376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C++ Base classes (NDArray, asynPortDriver, asynNDArrayDriver, ADDriver, NDPluginDriv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"/>
          <p:cNvCxnSpPr>
            <a:stCxn id="43" idx="3"/>
            <a:endCxn id="61" idx="2"/>
          </p:cNvCxnSpPr>
          <p:nvPr/>
        </p:nvCxnSpPr>
        <p:spPr>
          <a:xfrm flipV="1">
            <a:off x="5543640" y="3432960"/>
            <a:ext cx="2776680" cy="153432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3" name=""/>
          <p:cNvCxnSpPr>
            <a:stCxn id="61" idx="2"/>
            <a:endCxn id="64" idx="3"/>
          </p:cNvCxnSpPr>
          <p:nvPr/>
        </p:nvCxnSpPr>
        <p:spPr>
          <a:xfrm flipH="1">
            <a:off x="7497720" y="3432960"/>
            <a:ext cx="822600" cy="388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5" name=""/>
          <p:cNvCxnSpPr/>
          <p:nvPr/>
        </p:nvCxnSpPr>
        <p:spPr>
          <a:xfrm>
            <a:off x="1964880" y="33858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66" name=""/>
          <p:cNvSpPr/>
          <p:nvPr/>
        </p:nvSpPr>
        <p:spPr>
          <a:xfrm>
            <a:off x="0" y="1325520"/>
            <a:ext cx="1646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5 Standard EPICS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332080"/>
            <a:ext cx="155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device sup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530520"/>
            <a:ext cx="118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3 Plug-i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0" y="5532480"/>
            <a:ext cx="1463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1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Hardware A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4676760"/>
            <a:ext cx="155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2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Device dri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411120"/>
            <a:ext cx="1920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Layer 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PICS CA cli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54120" y="3652560"/>
            <a:ext cx="118908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tdArray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42" idx="1"/>
            <a:endCxn id="45" idx="0"/>
          </p:cNvCxnSpPr>
          <p:nvPr/>
        </p:nvCxnSpPr>
        <p:spPr>
          <a:xfrm flipV="1" rot="10800000">
            <a:off x="2148480" y="2717280"/>
            <a:ext cx="865080" cy="935280"/>
          </a:xfrm>
          <a:prstGeom prst="bentConnector2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6218280" y="3424320"/>
            <a:ext cx="1279440" cy="79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File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(</a:t>
            </a: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netCDF, TIFF, JPEG, HD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"/>
          <p:cNvCxnSpPr>
            <a:stCxn id="43" idx="0"/>
            <a:endCxn id="64" idx="2"/>
          </p:cNvCxnSpPr>
          <p:nvPr/>
        </p:nvCxnSpPr>
        <p:spPr>
          <a:xfrm flipV="1">
            <a:off x="4674240" y="4218120"/>
            <a:ext cx="2184120" cy="58068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cxnSp>
        <p:nvCxnSpPr>
          <p:cNvPr id="74" name=""/>
          <p:cNvCxnSpPr>
            <a:stCxn id="42" idx="2"/>
            <a:endCxn id="64" idx="0"/>
          </p:cNvCxnSpPr>
          <p:nvPr/>
        </p:nvCxnSpPr>
        <p:spPr>
          <a:xfrm>
            <a:off x="4673520" y="3008160"/>
            <a:ext cx="2184840" cy="41652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658332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XXX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2"/>
            <a:endCxn id="42" idx="0"/>
          </p:cNvCxnSpPr>
          <p:nvPr/>
        </p:nvCxnSpPr>
        <p:spPr>
          <a:xfrm flipH="1">
            <a:off x="4673520" y="2063520"/>
            <a:ext cx="268704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52" idx="2"/>
            <a:endCxn id="75" idx="0"/>
          </p:cNvCxnSpPr>
          <p:nvPr/>
        </p:nvCxnSpPr>
        <p:spPr>
          <a:xfrm>
            <a:off x="4545720" y="935280"/>
            <a:ext cx="281484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42" idx="2"/>
            <a:endCxn id="45" idx="0"/>
          </p:cNvCxnSpPr>
          <p:nvPr/>
        </p:nvCxnSpPr>
        <p:spPr>
          <a:xfrm flipH="1">
            <a:off x="2148480" y="3008160"/>
            <a:ext cx="252540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endCxn id="80" idx="1"/>
          </p:cNvCxnSpPr>
          <p:nvPr/>
        </p:nvCxnSpPr>
        <p:spPr>
          <a:xfrm>
            <a:off x="6019920" y="5257440"/>
            <a:ext cx="503640" cy="1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6523200" y="510552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hannel 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"/>
          <p:cNvCxnSpPr>
            <a:endCxn id="82" idx="1"/>
          </p:cNvCxnSpPr>
          <p:nvPr/>
        </p:nvCxnSpPr>
        <p:spPr>
          <a:xfrm>
            <a:off x="6019920" y="5543280"/>
            <a:ext cx="503640" cy="144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523200" y="53910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Record/device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endCxn id="84" idx="1"/>
          </p:cNvCxnSpPr>
          <p:nvPr/>
        </p:nvCxnSpPr>
        <p:spPr>
          <a:xfrm>
            <a:off x="6019920" y="57909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6523200" y="563868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Int32, Float64, Oct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"/>
          <p:cNvCxnSpPr>
            <a:endCxn id="86" idx="1"/>
          </p:cNvCxnSpPr>
          <p:nvPr/>
        </p:nvCxnSpPr>
        <p:spPr>
          <a:xfrm>
            <a:off x="6019920" y="6248160"/>
            <a:ext cx="503640" cy="144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6523200" y="6095880"/>
            <a:ext cx="269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GenericPointer (NDArra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endCxn id="88" idx="1"/>
          </p:cNvCxnSpPr>
          <p:nvPr/>
        </p:nvCxnSpPr>
        <p:spPr>
          <a:xfrm>
            <a:off x="6019920" y="6019560"/>
            <a:ext cx="503640" cy="1440"/>
          </a:xfrm>
          <a:prstGeom prst="straightConnector1">
            <a:avLst/>
          </a:prstGeom>
          <a:ln w="9360">
            <a:solidFill>
              <a:srgbClr val="0000ff"/>
            </a:solidFill>
            <a:prstDash val="lgDash"/>
            <a:miter/>
            <a:headEnd len="med" type="triangle" w="med"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6523200" y="5867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asynXXX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90" idx="1"/>
          </p:cNvCxnSpPr>
          <p:nvPr/>
        </p:nvCxnSpPr>
        <p:spPr>
          <a:xfrm>
            <a:off x="6019920" y="6505200"/>
            <a:ext cx="503640" cy="1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6523200" y="63532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Unicode MS"/>
              </a:rPr>
              <a:t>C librar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64160" y="1482840"/>
            <a:ext cx="155412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NDPluginBas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.templ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52" idx="2"/>
            <a:endCxn id="91" idx="0"/>
          </p:cNvCxnSpPr>
          <p:nvPr/>
        </p:nvCxnSpPr>
        <p:spPr>
          <a:xfrm>
            <a:off x="4545720" y="935280"/>
            <a:ext cx="895680" cy="547920"/>
          </a:xfrm>
          <a:prstGeom prst="straightConnector1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3" name=""/>
          <p:cNvCxnSpPr>
            <a:stCxn id="91" idx="2"/>
            <a:endCxn id="42" idx="0"/>
          </p:cNvCxnSpPr>
          <p:nvPr/>
        </p:nvCxnSpPr>
        <p:spPr>
          <a:xfrm flipH="1">
            <a:off x="4673520" y="2063520"/>
            <a:ext cx="767880" cy="364320"/>
          </a:xfrm>
          <a:prstGeom prst="straightConnector1">
            <a:avLst/>
          </a:prstGeom>
          <a:ln w="9360">
            <a:solidFill>
              <a:srgbClr val="008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4" name=""/>
          <p:cNvCxnSpPr>
            <a:stCxn id="95" idx="3"/>
            <a:endCxn id="49" idx="1"/>
          </p:cNvCxnSpPr>
          <p:nvPr/>
        </p:nvCxnSpPr>
        <p:spPr>
          <a:xfrm>
            <a:off x="4387680" y="3821040"/>
            <a:ext cx="54972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95" idx="1"/>
            <a:endCxn id="45" idx="3"/>
          </p:cNvCxnSpPr>
          <p:nvPr/>
        </p:nvCxnSpPr>
        <p:spPr>
          <a:xfrm flipH="1">
            <a:off x="2743200" y="3821040"/>
            <a:ext cx="36540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  <p:sp>
        <p:nvSpPr>
          <p:cNvPr id="49" name=""/>
          <p:cNvSpPr/>
          <p:nvPr/>
        </p:nvSpPr>
        <p:spPr>
          <a:xfrm>
            <a:off x="4937040" y="3652560"/>
            <a:ext cx="1006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O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08240" y="3652560"/>
            <a:ext cx="127944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olorConv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42" idx="2"/>
            <a:endCxn id="95" idx="0"/>
          </p:cNvCxnSpPr>
          <p:nvPr/>
        </p:nvCxnSpPr>
        <p:spPr>
          <a:xfrm flipH="1">
            <a:off x="3747960" y="3008160"/>
            <a:ext cx="925920" cy="644760"/>
          </a:xfrm>
          <a:prstGeom prst="straightConnector1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95" idx="2"/>
            <a:endCxn id="43" idx="0"/>
          </p:cNvCxnSpPr>
          <p:nvPr/>
        </p:nvCxnSpPr>
        <p:spPr>
          <a:xfrm>
            <a:off x="3747960" y="3989880"/>
            <a:ext cx="926640" cy="808920"/>
          </a:xfrm>
          <a:prstGeom prst="straightConnector1">
            <a:avLst/>
          </a:prstGeom>
          <a:ln w="9360">
            <a:solidFill>
              <a:srgbClr val="ff00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49" idx="3"/>
            <a:endCxn id="64" idx="1"/>
          </p:cNvCxnSpPr>
          <p:nvPr/>
        </p:nvCxnSpPr>
        <p:spPr>
          <a:xfrm>
            <a:off x="5943600" y="3821040"/>
            <a:ext cx="275040" cy="360"/>
          </a:xfrm>
          <a:prstGeom prst="straightConnector1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1T16:40:55Z</dcterms:created>
  <dc:creator>epics</dc:creator>
  <dc:description/>
  <dc:language>en-US</dc:language>
  <cp:lastModifiedBy>Mark Rivers</cp:lastModifiedBy>
  <dcterms:modified xsi:type="dcterms:W3CDTF">2009-09-11T21:59:31Z</dcterms:modified>
  <cp:revision>24</cp:revision>
  <dc:subject/>
  <dc:title>mcaRecord</dc:title>
</cp:coreProperties>
</file>