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22F3-5CB3-4BE7-A43C-B9900B664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0753-B94E-4E40-979B-6A1999F1C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E71D-4005-4580-98C0-517169CF0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5394-B2BB-4803-9AAC-562D65873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2283-9A58-495B-9227-191E58C74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EB47-9EA7-4123-8646-29AEB05B9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D983-D119-45C2-B8C8-EC47A39F8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C3C1-1881-4171-B42C-FF3B4CD2D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DB94-1624-4FFB-8FE6-218102A73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36DE-01E8-4AE0-A8E2-001D198C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5E27-1F02-4A7A-AFFF-FB4AA89A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4005-3604-4CA2-89D8-C1319C12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6583E-0188-43A9-A29A-D04502D6E4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2"/>
            <a:endCxn id="43" idx="0"/>
          </p:cNvCxnSpPr>
          <p:nvPr/>
        </p:nvCxnSpPr>
        <p:spPr>
          <a:xfrm flipH="1" rot="16200000">
            <a:off x="3778920" y="3902760"/>
            <a:ext cx="1790640" cy="1080"/>
          </a:xfrm>
          <a:prstGeom prst="curvedConnector3">
            <a:avLst>
              <a:gd name="adj1" fmla="val 24994"/>
            </a:avLst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4" name=""/>
          <p:cNvCxnSpPr>
            <a:stCxn id="43" idx="0"/>
            <a:endCxn id="45" idx="2"/>
          </p:cNvCxnSpPr>
          <p:nvPr/>
        </p:nvCxnSpPr>
        <p:spPr>
          <a:xfrm flipH="1" flipV="1">
            <a:off x="2148480" y="3989880"/>
            <a:ext cx="252612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1646280" y="1482840"/>
            <a:ext cx="11890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DBa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13200" y="2427480"/>
            <a:ext cx="3321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tandard asyn device suppor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(device-independ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76600" y="5535000"/>
            <a:ext cx="21938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Vendor 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5200" y="4798440"/>
            <a:ext cx="1738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Driv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9" idx="2"/>
            <a:endCxn id="43" idx="0"/>
          </p:cNvCxnSpPr>
          <p:nvPr/>
        </p:nvCxnSpPr>
        <p:spPr>
          <a:xfrm flipH="1">
            <a:off x="4674240" y="3989880"/>
            <a:ext cx="76644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0" name=""/>
          <p:cNvCxnSpPr>
            <a:stCxn id="43" idx="2"/>
            <a:endCxn id="47" idx="0"/>
          </p:cNvCxnSpPr>
          <p:nvPr/>
        </p:nvCxnSpPr>
        <p:spPr>
          <a:xfrm flipH="1">
            <a:off x="4673520" y="5135760"/>
            <a:ext cx="1080" cy="39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1" name=""/>
          <p:cNvCxnSpPr>
            <a:stCxn id="42" idx="2"/>
            <a:endCxn id="49" idx="0"/>
          </p:cNvCxnSpPr>
          <p:nvPr/>
        </p:nvCxnSpPr>
        <p:spPr>
          <a:xfrm>
            <a:off x="4673520" y="3008160"/>
            <a:ext cx="76716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1828800" y="597960"/>
            <a:ext cx="54338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Channel Access Clients (medm, IDL, ImageJ, SPEC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52" idx="2"/>
            <a:endCxn id="46" idx="0"/>
          </p:cNvCxnSpPr>
          <p:nvPr/>
        </p:nvCxnSpPr>
        <p:spPr>
          <a:xfrm flipH="1">
            <a:off x="2240640" y="935280"/>
            <a:ext cx="230544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1625760" y="17136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PICS areaDetector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46" idx="2"/>
            <a:endCxn id="42" idx="0"/>
          </p:cNvCxnSpPr>
          <p:nvPr/>
        </p:nvCxnSpPr>
        <p:spPr>
          <a:xfrm>
            <a:off x="2240640" y="2063520"/>
            <a:ext cx="243324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3200400" y="1471680"/>
            <a:ext cx="12794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xxxDriv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52" idx="2"/>
            <a:endCxn id="56" idx="0"/>
          </p:cNvCxnSpPr>
          <p:nvPr/>
        </p:nvCxnSpPr>
        <p:spPr>
          <a:xfrm flipH="1">
            <a:off x="3840120" y="935280"/>
            <a:ext cx="705960" cy="53676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8" name=""/>
          <p:cNvCxnSpPr>
            <a:stCxn id="56" idx="2"/>
            <a:endCxn id="42" idx="0"/>
          </p:cNvCxnSpPr>
          <p:nvPr/>
        </p:nvCxnSpPr>
        <p:spPr>
          <a:xfrm>
            <a:off x="3840120" y="2052360"/>
            <a:ext cx="833760" cy="37548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3532320" y="6106680"/>
            <a:ext cx="22842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Hard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7" idx="2"/>
            <a:endCxn id="59" idx="0"/>
          </p:cNvCxnSpPr>
          <p:nvPr/>
        </p:nvCxnSpPr>
        <p:spPr>
          <a:xfrm>
            <a:off x="4673520" y="5872320"/>
            <a:ext cx="1080" cy="23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7588080" y="2243880"/>
            <a:ext cx="1463760" cy="11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C++ Base classes (NDArray, asynPortDriver, asynNDArrayDriver, ADDriver, NDPluginDriv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43" idx="3"/>
            <a:endCxn id="61" idx="2"/>
          </p:cNvCxnSpPr>
          <p:nvPr/>
        </p:nvCxnSpPr>
        <p:spPr>
          <a:xfrm flipV="1">
            <a:off x="5543640" y="3432960"/>
            <a:ext cx="2776680" cy="153432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3" name=""/>
          <p:cNvCxnSpPr>
            <a:stCxn id="61" idx="2"/>
            <a:endCxn id="64" idx="3"/>
          </p:cNvCxnSpPr>
          <p:nvPr/>
        </p:nvCxnSpPr>
        <p:spPr>
          <a:xfrm flipH="1">
            <a:off x="7497720" y="3432960"/>
            <a:ext cx="822600" cy="388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5" name=""/>
          <p:cNvCxnSpPr/>
          <p:nvPr/>
        </p:nvCxnSpPr>
        <p:spPr>
          <a:xfrm>
            <a:off x="1964880" y="338580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0" y="1325520"/>
            <a:ext cx="1646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5 Standard EPICS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332080"/>
            <a:ext cx="1554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PICS device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530520"/>
            <a:ext cx="118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3 Plug-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5532480"/>
            <a:ext cx="1463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1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Hardware 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4676760"/>
            <a:ext cx="155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2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Device dri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411120"/>
            <a:ext cx="192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PICS CA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54120" y="3652560"/>
            <a:ext cx="1189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td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42" idx="1"/>
            <a:endCxn id="45" idx="0"/>
          </p:cNvCxnSpPr>
          <p:nvPr/>
        </p:nvCxnSpPr>
        <p:spPr>
          <a:xfrm flipV="1" rot="10800000">
            <a:off x="2148480" y="2717280"/>
            <a:ext cx="865080" cy="935280"/>
          </a:xfrm>
          <a:prstGeom prst="bentConnector2">
            <a:avLst/>
          </a:prstGeom>
          <a:ln w="9360">
            <a:solidFill>
              <a:srgbClr val="0000ff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6218280" y="3424320"/>
            <a:ext cx="1279440" cy="79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Fil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netCDF, TIFF, JPEG, HD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43" idx="0"/>
            <a:endCxn id="64" idx="2"/>
          </p:cNvCxnSpPr>
          <p:nvPr/>
        </p:nvCxnSpPr>
        <p:spPr>
          <a:xfrm flipV="1">
            <a:off x="4674240" y="4218120"/>
            <a:ext cx="2184120" cy="58068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42" idx="2"/>
            <a:endCxn id="64" idx="0"/>
          </p:cNvCxnSpPr>
          <p:nvPr/>
        </p:nvCxnSpPr>
        <p:spPr>
          <a:xfrm>
            <a:off x="4673520" y="3008160"/>
            <a:ext cx="2184840" cy="41652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6583320" y="1482840"/>
            <a:ext cx="15541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NDPluginXXX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75" idx="2"/>
            <a:endCxn id="42" idx="0"/>
          </p:cNvCxnSpPr>
          <p:nvPr/>
        </p:nvCxnSpPr>
        <p:spPr>
          <a:xfrm flipH="1">
            <a:off x="4673520" y="2063520"/>
            <a:ext cx="268704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52" idx="2"/>
            <a:endCxn id="75" idx="0"/>
          </p:cNvCxnSpPr>
          <p:nvPr/>
        </p:nvCxnSpPr>
        <p:spPr>
          <a:xfrm>
            <a:off x="4545720" y="935280"/>
            <a:ext cx="281484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42" idx="2"/>
            <a:endCxn id="45" idx="0"/>
          </p:cNvCxnSpPr>
          <p:nvPr/>
        </p:nvCxnSpPr>
        <p:spPr>
          <a:xfrm flipH="1">
            <a:off x="2148480" y="3008160"/>
            <a:ext cx="252540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endCxn id="80" idx="1"/>
          </p:cNvCxnSpPr>
          <p:nvPr/>
        </p:nvCxnSpPr>
        <p:spPr>
          <a:xfrm>
            <a:off x="6019920" y="5257440"/>
            <a:ext cx="503640" cy="180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6523200" y="51055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Channel 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"/>
          <p:cNvCxnSpPr>
            <a:endCxn id="82" idx="1"/>
          </p:cNvCxnSpPr>
          <p:nvPr/>
        </p:nvCxnSpPr>
        <p:spPr>
          <a:xfrm>
            <a:off x="6019920" y="5543280"/>
            <a:ext cx="503640" cy="144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523200" y="53910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Record/device 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endCxn id="84" idx="1"/>
          </p:cNvCxnSpPr>
          <p:nvPr/>
        </p:nvCxnSpPr>
        <p:spPr>
          <a:xfrm>
            <a:off x="6019920" y="5790960"/>
            <a:ext cx="503640" cy="144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4" name=""/>
          <p:cNvSpPr/>
          <p:nvPr/>
        </p:nvSpPr>
        <p:spPr>
          <a:xfrm>
            <a:off x="6523200" y="5638680"/>
            <a:ext cx="26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Int32, Float64, Oct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"/>
          <p:cNvCxnSpPr>
            <a:endCxn id="86" idx="1"/>
          </p:cNvCxnSpPr>
          <p:nvPr/>
        </p:nvCxnSpPr>
        <p:spPr>
          <a:xfrm>
            <a:off x="6019920" y="6248160"/>
            <a:ext cx="503640" cy="144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6523200" y="6095880"/>
            <a:ext cx="26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GenericPointer (NDArra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endCxn id="88" idx="1"/>
          </p:cNvCxnSpPr>
          <p:nvPr/>
        </p:nvCxnSpPr>
        <p:spPr>
          <a:xfrm>
            <a:off x="6019920" y="6019560"/>
            <a:ext cx="503640" cy="1440"/>
          </a:xfrm>
          <a:prstGeom prst="straightConnector1">
            <a:avLst/>
          </a:prstGeom>
          <a:ln w="9360">
            <a:solidFill>
              <a:srgbClr val="0000ff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6523200" y="58672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XXX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90" idx="1"/>
          </p:cNvCxnSpPr>
          <p:nvPr/>
        </p:nvCxnSpPr>
        <p:spPr>
          <a:xfrm>
            <a:off x="6019920" y="6505200"/>
            <a:ext cx="503640" cy="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6523200" y="63532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C library ca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64160" y="1482840"/>
            <a:ext cx="15541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NDPluginBa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52" idx="2"/>
            <a:endCxn id="91" idx="0"/>
          </p:cNvCxnSpPr>
          <p:nvPr/>
        </p:nvCxnSpPr>
        <p:spPr>
          <a:xfrm>
            <a:off x="4545720" y="935280"/>
            <a:ext cx="89568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3" name=""/>
          <p:cNvCxnSpPr>
            <a:stCxn id="91" idx="2"/>
            <a:endCxn id="42" idx="0"/>
          </p:cNvCxnSpPr>
          <p:nvPr/>
        </p:nvCxnSpPr>
        <p:spPr>
          <a:xfrm flipH="1">
            <a:off x="4673520" y="2063520"/>
            <a:ext cx="76788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4" name=""/>
          <p:cNvCxnSpPr>
            <a:stCxn id="95" idx="3"/>
            <a:endCxn id="49" idx="1"/>
          </p:cNvCxnSpPr>
          <p:nvPr/>
        </p:nvCxnSpPr>
        <p:spPr>
          <a:xfrm>
            <a:off x="4387680" y="3821040"/>
            <a:ext cx="54972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95" idx="1"/>
            <a:endCxn id="45" idx="3"/>
          </p:cNvCxnSpPr>
          <p:nvPr/>
        </p:nvCxnSpPr>
        <p:spPr>
          <a:xfrm flipH="1">
            <a:off x="2743200" y="3821040"/>
            <a:ext cx="36540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4937040" y="3652560"/>
            <a:ext cx="1006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O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08240" y="3652560"/>
            <a:ext cx="1279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ColorConv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42" idx="2"/>
            <a:endCxn id="95" idx="0"/>
          </p:cNvCxnSpPr>
          <p:nvPr/>
        </p:nvCxnSpPr>
        <p:spPr>
          <a:xfrm flipH="1">
            <a:off x="3747960" y="3008160"/>
            <a:ext cx="92592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95" idx="2"/>
            <a:endCxn id="43" idx="0"/>
          </p:cNvCxnSpPr>
          <p:nvPr/>
        </p:nvCxnSpPr>
        <p:spPr>
          <a:xfrm>
            <a:off x="3747960" y="3989880"/>
            <a:ext cx="92664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49" idx="3"/>
            <a:endCxn id="64" idx="1"/>
          </p:cNvCxnSpPr>
          <p:nvPr/>
        </p:nvCxnSpPr>
        <p:spPr>
          <a:xfrm>
            <a:off x="5943600" y="3821040"/>
            <a:ext cx="27504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1T16:40:55Z</dcterms:created>
  <dc:creator>epics</dc:creator>
  <dc:description/>
  <dc:language>en-US</dc:language>
  <cp:lastModifiedBy>Mark Rivers</cp:lastModifiedBy>
  <dcterms:modified xsi:type="dcterms:W3CDTF">2009-09-11T21:59:31Z</dcterms:modified>
  <cp:revision>24</cp:revision>
  <dc:subject/>
  <dc:title>mcaRecord</dc:title>
</cp:coreProperties>
</file>